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7D13-18F8-437C-8431-36B70CC7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ACF-1832-485E-BF04-D820D608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3A0E-E9AD-4A6C-A553-593FBA8C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C02-DAA8-4007-A30D-758FB9C1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EE50-5D0A-45A2-A8A7-EF6F35D8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1F2-528D-489E-BFAA-8F9E9E98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A93-5A81-4EEA-B5EE-2D33A6F7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102-6AF2-41AC-8615-DFF0E922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E976-F9C8-4861-8A2F-7F0F97E1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72C-4194-42E4-8444-E24A8EBB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0C1-F9A0-47DC-9891-E21AE80B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CFD-7A6E-4C5A-8877-9912370B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4996-C915-4D84-A225-EEE949C1C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bgUI_fqS6lk" TargetMode="External"/><Relationship Id="rId3" Type="http://schemas.openxmlformats.org/officeDocument/2006/relationships/hyperlink" Target="http://www.youtube.com/watch?v=nupXxN1L0qo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914400" y="609480"/>
            <a:ext cx="8327880" cy="63374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50720" y="2641680"/>
            <a:ext cx="9231480" cy="9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Lucida Handwriting"/>
                <a:ea typeface="Lucida Handwriting"/>
              </a:rPr>
              <a:t>Hawaiian Folk Music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57360" y="614520"/>
            <a:ext cx="85420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 u="sng">
                <a:solidFill>
                  <a:srgbClr val="000000"/>
                </a:solidFill>
                <a:uFillTx/>
                <a:latin typeface="Lucida Handwriting"/>
                <a:ea typeface="Lucida Handwriting"/>
              </a:rPr>
              <a:t>About the Lei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6400800" y="4064040"/>
            <a:ext cx="3054240" cy="3112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453960" y="1625760"/>
            <a:ext cx="9342360" cy="24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Leis can be made of flowers, leaves, nuts, shells, feathers or bon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Brought to the Hawaiian Islands by early Polynesian voyag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The maile lei is the most sacred. It is used to signify peace between opposing chiefs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41200" y="4143240"/>
            <a:ext cx="578988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Handwriting"/>
                <a:ea typeface="Lucida Handwriting"/>
              </a:rPr>
              <a:t>Lei Etiquet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yone can wear a le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Wear the lei slightly draped over the back and front of shoulders</a:t>
            </a:r>
            <a:r>
              <a:rPr b="0" lang="en-US" sz="2400" spc="-1" strike="noStrike">
                <a:solidFill>
                  <a:srgbClr val="000000"/>
                </a:solidFill>
                <a:latin typeface="&quot;Lucida Handwriting&quot;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&quot;Lucida Handwriting&quot;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Do not remove the lei in the presence of who gave it to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920" y="307800"/>
            <a:ext cx="9658080" cy="9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&quot;Lucida Handwriting&quot;"/>
              </a:rPr>
              <a:t> 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Lucida Handwriting"/>
                <a:ea typeface="Lucida Handwriting"/>
              </a:rPr>
              <a:t>History of Hu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422000"/>
            <a:ext cx="9647280" cy="56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Early Hawaiians did not have a written language, so Hula was passed down orall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Hula is sacred to both men and women becuase both sexes are allowed to da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In the 1800's hula was almost lost because the missionaries forbid the native Hawaiians to dance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wo Styles of Hula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hula kahiko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raditional and ritualistic style of hula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ttp://www.youtube.com/watch?v=-Er0cltTD5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Georgia"/>
                <a:hlinkClick r:id="rId3"/>
              </a:rPr>
              <a:t>hula auana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westernized hula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46240" y="73080"/>
            <a:ext cx="661176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Handwriting"/>
                <a:ea typeface="Lucida Handwriting"/>
              </a:rPr>
              <a:t>Uli Uli and Ip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44440" y="1109520"/>
            <a:ext cx="561024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1.</a:t>
            </a:r>
            <a:r>
              <a:rPr b="0" lang="en-US" sz="900" spc="-1" strike="noStrike">
                <a:solidFill>
                  <a:srgbClr val="000000"/>
                </a:solidFill>
                <a:latin typeface="&quot;Times New Roman&quot;"/>
              </a:rPr>
              <a:t> 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Hold the uli, uli with fingers wrapped around gour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2.</a:t>
            </a:r>
            <a:r>
              <a:rPr b="0" lang="en-US" sz="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Practice shaking the uli, uli in one position from left to right, one hand at a tim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3.</a:t>
            </a:r>
            <a:r>
              <a:rPr b="0" lang="en-US" sz="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Next move the uli, uli across your body while moving it from left to write in your han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4.</a:t>
            </a:r>
            <a:r>
              <a:rPr b="0" lang="en-US" sz="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The goal is to keep it moving in rhythm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     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a.</a:t>
            </a:r>
            <a:r>
              <a:rPr b="0" lang="en-US" sz="900" spc="-1" strike="noStrike">
                <a:solidFill>
                  <a:srgbClr val="000000"/>
                </a:solidFill>
                <a:latin typeface="&quot;Times New Roman&quot;"/>
              </a:rPr>
              <a:t> 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Count 1, 2, 3, 4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5994360" y="1015920"/>
            <a:ext cx="3832200" cy="3014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203040" y="4114800"/>
            <a:ext cx="4488120" cy="3200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4775040" y="4379760"/>
            <a:ext cx="519300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1.</a:t>
            </a:r>
            <a:r>
              <a:rPr b="0" lang="en-US" sz="1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Hold the ipu as shown in the picture.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2.</a:t>
            </a:r>
            <a:r>
              <a:rPr b="0" lang="en-US" sz="1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Practice playing the ipu with your u (lower palm) and te (fingers). In this pattern u te u te u te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3.</a:t>
            </a:r>
            <a:r>
              <a:rPr b="0" lang="en-US" sz="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Try different rhythms</a:t>
            </a:r>
            <a:r>
              <a:rPr b="0" lang="en-US" sz="1300" spc="-1" strike="noStrike">
                <a:solidFill>
                  <a:srgbClr val="000000"/>
                </a:solidFill>
                <a:latin typeface="Chalkboard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halkboard"/>
              </a:rPr>
              <a:t>     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a.</a:t>
            </a:r>
            <a:r>
              <a:rPr b="0" lang="en-US" sz="1900" spc="-1" strike="noStrike">
                <a:solidFill>
                  <a:srgbClr val="000000"/>
                </a:solidFill>
                <a:latin typeface="&quot;Times New Roman&quot;"/>
              </a:rPr>
              <a:t>   </a:t>
            </a:r>
            <a:r>
              <a:rPr b="0" lang="en-US" sz="1900" spc="-1" strike="noStrike">
                <a:solidFill>
                  <a:srgbClr val="ff0000"/>
                </a:solidFill>
                <a:latin typeface="Chalkboard"/>
              </a:rPr>
              <a:t>u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 te te, </a:t>
            </a:r>
            <a:r>
              <a:rPr b="0" lang="en-US" sz="1900" spc="-1" strike="noStrike">
                <a:solidFill>
                  <a:srgbClr val="ff0000"/>
                </a:solidFill>
                <a:latin typeface="Chalkboard"/>
              </a:rPr>
              <a:t>u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 te te (repeat)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   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b.</a:t>
            </a:r>
            <a:r>
              <a:rPr b="0" lang="en-US" sz="1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ff0000"/>
                </a:solidFill>
                <a:latin typeface="Chalkboard"/>
              </a:rPr>
              <a:t>u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 te, </a:t>
            </a:r>
            <a:r>
              <a:rPr b="0" lang="en-US" sz="1900" spc="-1" strike="noStrike">
                <a:solidFill>
                  <a:srgbClr val="ff0000"/>
                </a:solidFill>
                <a:latin typeface="Chalkboard"/>
              </a:rPr>
              <a:t>u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 te te, </a:t>
            </a:r>
            <a:r>
              <a:rPr b="0" lang="en-US" sz="1900" spc="-1" strike="noStrike">
                <a:solidFill>
                  <a:srgbClr val="ff0000"/>
                </a:solidFill>
                <a:latin typeface="Chalkboard"/>
              </a:rPr>
              <a:t>u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 te te te </a:t>
            </a:r>
            <a:r>
              <a:rPr b="0" lang="en-US" sz="1900" spc="-1" strike="noStrike">
                <a:solidFill>
                  <a:srgbClr val="ff0000"/>
                </a:solidFill>
                <a:latin typeface="Chalkboard"/>
              </a:rPr>
              <a:t>u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 te te (repeat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307800"/>
            <a:ext cx="9658080" cy="9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Lucida Handwriting"/>
                <a:ea typeface="Lucida Handwriting"/>
              </a:rPr>
              <a:t>Pu’ili/Split Bamboo and Ukule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2720" y="1012680"/>
            <a:ext cx="4832640" cy="36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1.</a:t>
            </a:r>
            <a:r>
              <a:rPr b="0" lang="en-US" sz="1900" spc="-1" strike="noStrike">
                <a:solidFill>
                  <a:srgbClr val="000000"/>
                </a:solidFill>
                <a:latin typeface="&quot;Times New Roman&quot;"/>
              </a:rPr>
              <a:t> 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Hold the Pu’ili at the solid end (not the split end) like you would hold a bottle.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2.</a:t>
            </a:r>
            <a:r>
              <a:rPr b="0" lang="en-US" sz="1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Use only the wrist and practice hitting them together (like the demonstration)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3.</a:t>
            </a:r>
            <a:r>
              <a:rPr b="0" lang="en-US" sz="1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Now practice hitting the Pu’ili on your shoulders—remember only use the wrist!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4.</a:t>
            </a:r>
            <a:r>
              <a:rPr b="0" lang="en-US" sz="1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Now make a rhythm. 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       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a.</a:t>
            </a:r>
            <a:r>
              <a:rPr b="0" lang="en-US" sz="1900" spc="-1" strike="noStrike">
                <a:solidFill>
                  <a:srgbClr val="000000"/>
                </a:solidFill>
                <a:latin typeface="&quot;Times New Roman&quot;"/>
              </a:rPr>
              <a:t> 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Count 1, 2, 3 out and 4 on the shoulders.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       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b.</a:t>
            </a:r>
            <a:r>
              <a:rPr b="0" lang="en-US" sz="1900" spc="-1" strike="noStrike">
                <a:solidFill>
                  <a:srgbClr val="000000"/>
                </a:solidFill>
                <a:latin typeface="&quot;Times New Roman&quot;"/>
              </a:rPr>
              <a:t>  </a:t>
            </a:r>
            <a:r>
              <a:rPr b="0" lang="en-US" sz="1900" spc="-1" strike="noStrike">
                <a:solidFill>
                  <a:srgbClr val="000000"/>
                </a:solidFill>
                <a:latin typeface="Chalkboard"/>
              </a:rPr>
              <a:t>Make your own pattern!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407880" y="1116000"/>
            <a:ext cx="3984840" cy="3478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6908760" y="4572000"/>
            <a:ext cx="2841840" cy="968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4"/>
          <a:stretch/>
        </p:blipFill>
        <p:spPr>
          <a:xfrm>
            <a:off x="5384880" y="5587920"/>
            <a:ext cx="2728800" cy="860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5"/>
          <a:stretch/>
        </p:blipFill>
        <p:spPr>
          <a:xfrm>
            <a:off x="6908760" y="6502320"/>
            <a:ext cx="2811600" cy="949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6"/>
          <a:stretch/>
        </p:blipFill>
        <p:spPr>
          <a:xfrm>
            <a:off x="276120" y="4775040"/>
            <a:ext cx="46576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Kimberly Putnam</cp:lastModifiedBy>
  <dcterms:modified xsi:type="dcterms:W3CDTF">2010-08-16T18:00:26Z</dcterms:modified>
  <cp:revision>2</cp:revision>
  <dc:subject/>
  <dc:title>PowerPoint Presentation</dc:title>
</cp:coreProperties>
</file>